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850-2109-481D-9725-DD51EFDE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EBF-F610-472E-BFED-7EBC1278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AA2-827C-4FFB-9172-2B3A41DA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3B7E-392E-4A60-BE0F-926ADD22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1FBF-D161-45E4-80F9-865DBF93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4A92-D7CF-412D-AE38-2969BCC5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F6B-1FDE-4EEE-B782-A02FF6B3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EDD-BCB0-4D85-A57F-AA9AA8A9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0039-F8DA-4CB6-BD16-B049D5C4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0C21-FAE5-4A60-9C84-9F48C567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B01-01B8-4FD8-983E-22EB48EE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348-1A5D-4C16-A989-F745EA8F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F5D3-9DC7-4062-8E3B-BCB443622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3840" cy="1730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be the effects of the Yom Kippur War on Arab Israeli relations (12 mark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mes/categor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itive vs nega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conomic/Political/Milit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term/long te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362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 of today, tomorrow and homework…. First draft of your answer, for peer review on Thurs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2997360"/>
            <a:ext cx="8229600" cy="3157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cribe the effects of the Yom Kippur War on Arab Israeli rel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roups brainstorm the main effects of the Yom Kippur War on Arab Israeli re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information sheets &amp; p43-45 In your textbook to find the key effects/consequences of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oo much detail at this stage, just the main ‘heading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10 minutes – so divide the work u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heading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040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ad to Camp David and pe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il wea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ypt moves towards USA away from US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raeli uncertainty, no longer ‘David’, no longer ‘invincibl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lestinians and Leba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refugees = greater instability, especially Leb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out of peace process, greater support for PLO – to fight for peace their own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banon: ‘Fatahland’ attacks on Israel + Israeli peace with Egypt = invasions. Deva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der pe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Egypt isolated, Sadat assassinated. Chances don’t look g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ergence of a new Arab champ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cribe the effects of the Yom Kippur War on Arab Israeli rel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ab world uses the ‘oil weapon’: severe strain on economies of Israel’s allies: mainly Europe and USA: they in turn apply pressure on Israel to withdraw and negoti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gypt moves away from USSR and towards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raeli uncertainty + Sadat/Arab worlds new found confidence + USA pressure = chance for peace, culminating in Camp 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cribe the effects of the Yom Kippur War on Arab Israeli rel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, every silver lining has a clou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results in even more refugees in Jordan and Lebanon – instability and growing support for PLO and other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process leaves Palestinians out: situation without Egyptian support leaves them looking even more hopel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PLO raids on Israel from refugee camps in Lebanon + Israeli peace with Egypt provide motive and opportunity for Israeli invasions of Leban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cribe the effects of the Yom Kippur War on Arab Israeli rel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consequences of Egypt ste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shoved?) as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gyptian relations with rest of the Arab world dec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dat assassina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ces of wider Arab-Israeli peace talks reduced – no military pressure from Egypt and also Arab leaders looking at consequences for Sadat of ‘going it alon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cribe the effects of the Yom Kippur War on Arab Israeli rel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consequences for Isra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war in which they suffered substantial casualties and POW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+ the later experience of the wars in Lebanon led to growth of ‘Israeli peace movement’ in Isra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cribe the effects of the Yom Kippur War on Arab Israeli rel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der eff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mp David isolates Egypt from rest of Arab world: they feel betrayed by Sadat’s ‘go it alone’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ab world is now lacking a clear leader. Syria tries to take on the role, but ultimately too small and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er Saddam Hussein: backed by the US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the e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marks = 800 words appr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: Immediate consequences (who won etc) and how you are going to answer the question (categories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: remember to have clear ‘sections’ with linking sentences. Focus throughout on the effect of the war on Arab-Israeli re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 answer the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4:50:34Z</dcterms:created>
  <dc:creator>Chris&amp;Kim</dc:creator>
  <dc:description/>
  <dc:language>en-US</dc:language>
  <cp:lastModifiedBy>Mr. Wright</cp:lastModifiedBy>
  <dcterms:modified xsi:type="dcterms:W3CDTF">2008-10-28T10:06:21Z</dcterms:modified>
  <cp:revision>19</cp:revision>
  <dc:subject/>
  <dc:title>Slide 1</dc:title>
</cp:coreProperties>
</file>